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0F4-D742-471D-9798-CE7E09D6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03D-80E5-4B70-A236-5EBB74C9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B21-60F0-447C-82CE-B460A4A7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1D6-CA60-41CE-95C0-D7A7481F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82B-7CB3-458B-97DE-D2E461EA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E14-6265-4D9D-B25C-E9D741C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F8E-803E-496E-9E67-91972216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C9E-41B7-4F26-8200-9A4F6682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B54-D614-47AE-A22C-4F94E473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6CE-B018-4E7F-8ABA-6D332554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8BC-404F-4BC5-AB84-52A788C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BC2-3EFF-4446-B326-FB44C30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672F-19FF-4394-B8C8-576B46F01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384120" y="731880"/>
            <a:ext cx="84488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536400" y="835200"/>
            <a:ext cx="774864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артинка 33 из 374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4952880" y="1620360"/>
            <a:ext cx="3886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ыражение «Колесо Фортуны» употребляется в значении: случай, слепое счастье.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Файл:L’Hortus Deliciarum.jpg"/>
          <p:cNvPicPr/>
          <p:nvPr/>
        </p:nvPicPr>
        <p:blipFill>
          <a:blip r:embed="rId1"/>
          <a:stretch/>
        </p:blipFill>
        <p:spPr>
          <a:xfrm>
            <a:off x="152280" y="1905120"/>
            <a:ext cx="4724640" cy="43146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6" descr=""/>
          <p:cNvPicPr/>
          <p:nvPr/>
        </p:nvPicPr>
        <p:blipFill>
          <a:blip r:embed="rId2"/>
          <a:stretch/>
        </p:blipFill>
        <p:spPr>
          <a:xfrm>
            <a:off x="615960" y="225360"/>
            <a:ext cx="79851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276720" y="297720"/>
            <a:ext cx="5029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Фортуна — в римской мифологии богиня слепого случая, счастья и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есчастья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Фортуна. Статуя из Остии. II век. Рим. Ватиканские музеи."/>
          <p:cNvPicPr/>
          <p:nvPr/>
        </p:nvPicPr>
        <p:blipFill>
          <a:blip r:embed="rId1"/>
          <a:stretch/>
        </p:blipFill>
        <p:spPr>
          <a:xfrm>
            <a:off x="457200" y="838080"/>
            <a:ext cx="2378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5257800" y="753480"/>
            <a:ext cx="3429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на изображалась с повязкой на глазах, стоящей   шаре или колесе и держащей в одной руке руль, а в другой — рог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илия.        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eurosuvenir.ru/products_pictures/S-84-S-NO.jpg"/>
          <p:cNvPicPr/>
          <p:nvPr/>
        </p:nvPicPr>
        <p:blipFill>
          <a:blip r:embed="rId1"/>
          <a:stretch/>
        </p:blipFill>
        <p:spPr>
          <a:xfrm>
            <a:off x="0" y="380880"/>
            <a:ext cx="51339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19320" y="936000"/>
            <a:ext cx="6834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Руль указывал на то, что фортуна управляет судьбой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еловека, рог изобилия — на благополучие, изобилие, которое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на может подарить, а шар или колесо подчеркивали ее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остоянную изменчивость.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4" descr=""/>
          <p:cNvPicPr/>
          <p:nvPr/>
        </p:nvPicPr>
        <p:blipFill>
          <a:blip r:embed="rId1"/>
          <a:stretch/>
        </p:blipFill>
        <p:spPr>
          <a:xfrm>
            <a:off x="463680" y="1139760"/>
            <a:ext cx="81439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11-21T01:24:22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